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94F-DADE-49ED-9BD2-05B9C459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C6D-64ED-4F71-94F9-E94A5C4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781-6DBF-4F7F-896A-32C2503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750-0D45-49B2-A8E2-BC8EEC9D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7E2-1A29-42FB-B5B4-E27D0B56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276F-0AF9-4650-BA27-1E08FA8D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652-AD37-4067-A692-187029EA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261D-AA82-4770-BB26-11400E3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D68-6400-4468-9880-296E625E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011-BCC9-442A-8892-1D22E293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58CD-97CE-4EA0-B5E2-FEE9E9B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B93-A72A-468A-B99A-AF68DE1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E59F-7683-4838-A818-2A9C63B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B8EC-1C3B-43C1-99A5-A1EA481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EC21-E65B-4BBB-AC61-B029A55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E0F-E72F-49C2-B490-D8A58B1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366-F8B6-41C2-ABA4-DC316D8D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014-9727-4536-9189-0EC9660C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932-0A7C-4ABC-BDEC-3D6666B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A89-348F-49D5-AEFD-043F90E0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723-C88C-45BC-987B-759077A5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E3D-6375-4336-B270-D56F2A1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D29-CE13-49F8-854A-611373B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105-30AD-4E93-B8D7-4AF3058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607-4A51-420F-B02F-D24D2E723933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EEC-92A8-42A6-BABF-42634268337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صو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ر بِ أصرخ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سكبُ أمامَهُ شكوايَ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بُثُّ لديهِ ضيق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003640"/>
            <a:ext cx="9144000" cy="36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ندما يُغشى على روحي فـيَّ 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بادَ عنّي كلُّ ملجأ، ليسَ من يسألُ عن نفس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رختُ إليكَ ياربّي. قلتُ أنتَ مُعتَصَمي. أنتَ حظّ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أرضِ الأحياء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Charbel Azar</cp:lastModifiedBy>
  <dcterms:modified xsi:type="dcterms:W3CDTF">2003-02-13T13:30:50Z</dcterms:modified>
  <cp:revision>8</cp:revision>
  <dc:subject/>
  <dc:title>PowerPoint Presentation</dc:title>
</cp:coreProperties>
</file>